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D27-8C70-406D-87E3-82C85D3B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270-E4F5-46F7-946D-061321D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222-F213-4126-92E1-F16A6E16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CB4-A960-4812-A33F-40CCAF95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30B-A343-408A-98C5-FB17DAC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280-B629-4A91-BE80-1D3C5192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F5B-9AB7-462E-B1D2-78112416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71A-D5F4-410D-AF71-3D72EF9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9FC-465D-4BF2-9637-54EFBB3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E67-8776-490C-9D42-C88F05E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8DD-09B2-42FC-A691-F0F3FE8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447-CC4C-4904-A4B3-B8688219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3cddd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99D-CD88-4FB6-BDFE-31F9E50B3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lubs.ya.ru/4611686018427394590/replies.xml?item_no=40817" TargetMode="External"/><Relationship Id="rId2" Type="http://schemas.openxmlformats.org/officeDocument/2006/relationships/hyperlink" Target="http://visitkazakhstan.nur.kz/ru/guide/tours/10/0/" TargetMode="External"/><Relationship Id="rId3" Type="http://schemas.openxmlformats.org/officeDocument/2006/relationships/hyperlink" Target="http://blogs.privet.ru/community/astronomy/tags/191144" TargetMode="External"/><Relationship Id="rId4" Type="http://schemas.openxmlformats.org/officeDocument/2006/relationships/hyperlink" Target="http://www.novosti-kosmonavtiki.ru/content/numbers/237/40.s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Освоение космо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Владелец\Desktop\2_1_~1.JPG"/>
          <p:cNvPicPr/>
          <p:nvPr/>
        </p:nvPicPr>
        <p:blipFill>
          <a:blip r:embed="rId1"/>
          <a:stretch/>
        </p:blipFill>
        <p:spPr>
          <a:xfrm>
            <a:off x="1258920" y="1628640"/>
            <a:ext cx="6958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9. Кто первым в мире вышел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3598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Алексей Архипович Лео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Владелец\Desktop\Leonov-10.jpg"/>
          <p:cNvPicPr/>
          <p:nvPr/>
        </p:nvPicPr>
        <p:blipFill>
          <a:blip r:embed="rId1"/>
          <a:stretch/>
        </p:blipFill>
        <p:spPr>
          <a:xfrm>
            <a:off x="4522680" y="2349360"/>
            <a:ext cx="33354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10.  Кто стал первым человеком, ступившим на поверхность Луны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538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л Армстро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Владелец\Desktop\ess_moon_cernan.jpg"/>
          <p:cNvPicPr/>
          <p:nvPr/>
        </p:nvPicPr>
        <p:blipFill>
          <a:blip r:embed="rId1"/>
          <a:stretch/>
        </p:blipFill>
        <p:spPr>
          <a:xfrm>
            <a:off x="4643280" y="2571840"/>
            <a:ext cx="40053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Как называются русский и американский космические корабли многоразового использо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708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Буран»  «Шатт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1237041514_1.jpg"/>
          <p:cNvPicPr/>
          <p:nvPr/>
        </p:nvPicPr>
        <p:blipFill>
          <a:blip r:embed="rId1"/>
          <a:stretch/>
        </p:blipFill>
        <p:spPr>
          <a:xfrm>
            <a:off x="3132000" y="2276640"/>
            <a:ext cx="57391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2. Какие космодромы есть сейчас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на территории Росс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Владелец\Desktop\da50bf3fef7557c86397e32b19d.jpg"/>
          <p:cNvPicPr/>
          <p:nvPr/>
        </p:nvPicPr>
        <p:blipFill>
          <a:blip r:embed="rId1"/>
          <a:stretch/>
        </p:blipFill>
        <p:spPr>
          <a:xfrm>
            <a:off x="3995640" y="2421000"/>
            <a:ext cx="4667400" cy="307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2924280"/>
            <a:ext cx="4140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Плесецк»  «Восточ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561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Выдающихся  людей  надо   знать  в  лицо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960000"/>
                </a:solidFill>
                <a:latin typeface="Calibri"/>
              </a:rPr>
              <a:t>Перед вами портреты людей, чьи имена навсегда останутся в памяти человечества. Вам необходимо назвать их име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539640" y="333360"/>
            <a:ext cx="4589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Галилео Гали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alileo.arp.300pix.jpg"/>
          <p:cNvPicPr/>
          <p:nvPr/>
        </p:nvPicPr>
        <p:blipFill>
          <a:blip r:embed="rId1"/>
          <a:stretch/>
        </p:blipFill>
        <p:spPr>
          <a:xfrm>
            <a:off x="468360" y="549360"/>
            <a:ext cx="4749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10_03_31_09_32_nyuton"/>
          <p:cNvPicPr/>
          <p:nvPr/>
        </p:nvPicPr>
        <p:blipFill>
          <a:blip r:embed="rId1"/>
          <a:stretch/>
        </p:blipFill>
        <p:spPr>
          <a:xfrm>
            <a:off x="395280" y="333360"/>
            <a:ext cx="4762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Михаил Ломо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omonosov_(3)"/>
          <p:cNvPicPr/>
          <p:nvPr/>
        </p:nvPicPr>
        <p:blipFill>
          <a:blip r:embed="rId1"/>
          <a:stretch/>
        </p:blipFill>
        <p:spPr>
          <a:xfrm>
            <a:off x="250920" y="333360"/>
            <a:ext cx="51004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560" y="5660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ioklovskii"/>
          <p:cNvPicPr/>
          <p:nvPr/>
        </p:nvPicPr>
        <p:blipFill>
          <a:blip r:embed="rId1"/>
          <a:stretch/>
        </p:blipFill>
        <p:spPr>
          <a:xfrm>
            <a:off x="971640" y="476280"/>
            <a:ext cx="7416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1. 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36003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36286362.jpg"/>
          <p:cNvPicPr/>
          <p:nvPr/>
        </p:nvPicPr>
        <p:blipFill>
          <a:blip r:embed="rId1"/>
          <a:stretch/>
        </p:blipFill>
        <p:spPr>
          <a:xfrm>
            <a:off x="3643200" y="2928960"/>
            <a:ext cx="47386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korolev_01"/>
          <p:cNvPicPr/>
          <p:nvPr/>
        </p:nvPicPr>
        <p:blipFill>
          <a:blip r:embed="rId1"/>
          <a:stretch/>
        </p:blipFill>
        <p:spPr>
          <a:xfrm>
            <a:off x="415800" y="404640"/>
            <a:ext cx="4565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940000" y="2060640"/>
            <a:ext cx="3024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812"/>
          <p:cNvPicPr/>
          <p:nvPr/>
        </p:nvPicPr>
        <p:blipFill>
          <a:blip r:embed="rId1"/>
          <a:stretch/>
        </p:blipFill>
        <p:spPr>
          <a:xfrm>
            <a:off x="395280" y="907920"/>
            <a:ext cx="5761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580000" y="2060640"/>
            <a:ext cx="338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508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57120" y="1357200"/>
            <a:ext cx="83581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lubs.ya.ru/4611686018427394590/replies.xml?item_no=40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sitkazakhstan.nur.kz/ru/guide/tours/10/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astronomy/tags/191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novosti-kosmonavtiki.ru/content/numbers/237/4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vspu.ac.ru/~mog/interex/kaluga/history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roshkolu.ru/user/kubrina13/file/4976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t-day.ru/article/archives/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g-znanie.ru/rubrics.php?r_id=1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on.poseidon.travel/tourist_encyclopedia/Encuklopediya_poseidon/424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ronas.izmiran.ru/plesetsk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rsona.rin.ru/photo/10596/tereshkova-valentina-vladimi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osmicnews.ru/2009/04/astronomy-obnaruzhili-samuyu-legkuyu-iz-izvestnyx-ekzopla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kartinki/kosmos-gorod-transport/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1001vopros.com/2010/05/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83200" y="857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Назовите планеты Солнечной систем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3"/>
          <p:cNvSpPr/>
          <p:nvPr/>
        </p:nvSpPr>
        <p:spPr>
          <a:xfrm>
            <a:off x="50004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Владелец\Desktop\53879201_solsys.jpg"/>
          <p:cNvPicPr/>
          <p:nvPr/>
        </p:nvPicPr>
        <p:blipFill>
          <a:blip r:embed="rId1"/>
          <a:stretch/>
        </p:blipFill>
        <p:spPr>
          <a:xfrm>
            <a:off x="4214880" y="2428920"/>
            <a:ext cx="3905280" cy="3962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1560600"/>
            <a:ext cx="2584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2. Назовите русского ученого, основоположника космонавти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4546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Константин Эдуардович  Циол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Владелец\Desktop\9486.jpg"/>
          <p:cNvPicPr/>
          <p:nvPr/>
        </p:nvPicPr>
        <p:blipFill>
          <a:blip r:embed="rId1"/>
          <a:stretch/>
        </p:blipFill>
        <p:spPr>
          <a:xfrm>
            <a:off x="5651640" y="234936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Calibri"/>
              </a:rPr>
              <a:t>3. Назовите первый космический аппарат, выведенный на орбиту Земли Советским Союзом в 1957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36716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«Спут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Владелец\Desktop\Ris_1_2_2.jpg"/>
          <p:cNvPicPr/>
          <p:nvPr/>
        </p:nvPicPr>
        <p:blipFill>
          <a:blip r:embed="rId1"/>
          <a:stretch/>
        </p:blipFill>
        <p:spPr>
          <a:xfrm>
            <a:off x="3276720" y="2421000"/>
            <a:ext cx="5486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4. Назовите главного конструктора первых советских космических рак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374472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960000"/>
                </a:solidFill>
                <a:latin typeface="Calibri"/>
              </a:rPr>
              <a:t>Сергей Павлович Коро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Владелец\Desktop\03.jpg"/>
          <p:cNvPicPr/>
          <p:nvPr/>
        </p:nvPicPr>
        <p:blipFill>
          <a:blip r:embed="rId1"/>
          <a:stretch/>
        </p:blipFill>
        <p:spPr>
          <a:xfrm>
            <a:off x="3071880" y="2286000"/>
            <a:ext cx="5715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5.  В каком году состоялся первый полёт человека в космос?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3970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2 апреля 1961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128152841515_tour.jpg"/>
          <p:cNvPicPr/>
          <p:nvPr/>
        </p:nvPicPr>
        <p:blipFill>
          <a:blip r:embed="rId1"/>
          <a:stretch/>
        </p:blipFill>
        <p:spPr>
          <a:xfrm>
            <a:off x="3571920" y="2928960"/>
            <a:ext cx="5130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 Как назывался космический корабль, на борту которого первый космонавт планеты совершил полё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4032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«Вост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. Сколько длился полет Юрия Гага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3429000"/>
            <a:ext cx="38163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108 мин =  1 ч 48 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Владелец\Desktop\797.jpg"/>
          <p:cNvPicPr/>
          <p:nvPr/>
        </p:nvPicPr>
        <p:blipFill>
          <a:blip r:embed="rId1"/>
          <a:stretch/>
        </p:blipFill>
        <p:spPr>
          <a:xfrm>
            <a:off x="5148360" y="2708280"/>
            <a:ext cx="2833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20108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alibri"/>
              </a:rPr>
              <a:t>8. Первая в мире    женщина-космонав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42847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6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960000"/>
                </a:solidFill>
                <a:latin typeface="Calibri"/>
              </a:rPr>
              <a:t>Валентина Владимировна Тереш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Владелец\Desktop\21544.jpg"/>
          <p:cNvPicPr/>
          <p:nvPr/>
        </p:nvPicPr>
        <p:blipFill>
          <a:blip r:embed="rId1"/>
          <a:stretch/>
        </p:blipFill>
        <p:spPr>
          <a:xfrm>
            <a:off x="4716360" y="2565360"/>
            <a:ext cx="2905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58:57Z</dcterms:created>
  <dc:creator>Владелец</dc:creator>
  <dc:description/>
  <dc:language>en-US</dc:language>
  <cp:lastModifiedBy>ASUS</cp:lastModifiedBy>
  <dcterms:modified xsi:type="dcterms:W3CDTF">2015-04-08T16:16:45Z</dcterms:modified>
  <cp:revision>15</cp:revision>
  <dc:subject/>
  <dc:title>Кто сказал слова: "Облетев Землю в корабле-спутнике, я увидел, как прекрасна наша планета. Люди, будем хранить, и преумножать эту красоту, а не разрушать ее”. </dc:title>
</cp:coreProperties>
</file>